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261-E327-41DE-B102-814D339D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B53-A280-4D74-8DBF-10291376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11D-9190-4EDD-8905-5E98DDE2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91E-B7DF-4FEC-B1F7-7E3DC985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040-3C4F-4472-A408-163E90C6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385-E7BF-45C4-BB7D-0F871750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A13-1BE2-4423-B7D6-6D412ABB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BEF-199B-48FE-B9AF-28DAFEB0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510-A4FA-4CEB-86B0-E496D58F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692-B9E7-45A5-9A35-B2D092DB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F9B-3E3B-474C-8DAE-DBCCAF72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D36-7270-4A7A-959A-2C22307A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6957-DE67-4ECD-A349-C1EAD1EBAD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240" y="2286000"/>
            <a:ext cx="77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w Can Exposu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 Misclassified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209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464832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80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391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391520" cy="86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14400" y="3276720"/>
            <a:ext cx="7391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39152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79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1143000"/>
            <a:ext cx="39625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791320" y="2057400"/>
            <a:ext cx="6094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4572000"/>
            <a:ext cx="4572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flipH="1" rot="10800000">
            <a:off x="5791320" y="198108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 flipH="1" rot="10800000">
            <a:off x="6858000" y="4495680"/>
            <a:ext cx="6094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54480" y="88884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Times New Roman"/>
              </a:rPr>
              <a:t>Expos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5791320"/>
            <a:ext cx="53341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63868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5638680" cy="2590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5867280"/>
            <a:ext cx="44197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2210040" cy="5562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095880" y="4572000"/>
            <a:ext cx="533520" cy="41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133720" y="5867280"/>
            <a:ext cx="243828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20574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467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243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69608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769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696440" cy="61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6964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696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773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2895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5:25:16Z</dcterms:modified>
  <cp:revision>216</cp:revision>
  <dc:subject/>
  <dc:title>Slide 1</dc:title>
</cp:coreProperties>
</file>